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040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flipH="1">
            <a:off x="5327640" y="2895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645160" y="3048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64080" y="198108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477120" y="1987560"/>
            <a:ext cx="612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93520" y="282600"/>
            <a:ext cx="218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 Due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9760" y="1090440"/>
            <a:ext cx="906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tr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5920" y="851040"/>
            <a:ext cx="103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851040"/>
            <a:ext cx="61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11240" y="10954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22680" y="109548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2160" y="156528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voice D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520" y="1793880"/>
            <a:ext cx="142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 Billing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9320" y="2327400"/>
            <a:ext cx="73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11240" y="1547640"/>
            <a:ext cx="1816200" cy="105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95480" y="15652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21280" y="1547640"/>
            <a:ext cx="6728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1565280"/>
            <a:ext cx="76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5080" y="154764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1320" y="1565280"/>
            <a:ext cx="2433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Payment 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9000" y="2843280"/>
            <a:ext cx="1722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eiv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11240" y="2749680"/>
            <a:ext cx="15876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5080" y="276696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7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38560" y="274968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91040" y="29084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1440" y="3206880"/>
            <a:ext cx="212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638680" y="28893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3880" y="2908440"/>
            <a:ext cx="1206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67560" y="1994040"/>
            <a:ext cx="120672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75520" y="2801880"/>
            <a:ext cx="934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e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73520" y="253836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 30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00440" y="29192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" y="352908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45080" y="355932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est Pena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93920" y="38577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an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9760" y="4138560"/>
            <a:ext cx="725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CP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P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46080" y="4121280"/>
            <a:ext cx="11304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1840" y="4121280"/>
            <a:ext cx="901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55760" y="4800600"/>
            <a:ext cx="10209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93400" y="490068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30280" y="4873680"/>
            <a:ext cx="865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8320" y="4900680"/>
            <a:ext cx="986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8160" y="5338800"/>
            <a:ext cx="34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Add the total of the “Interest Amount” column to th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amount of principle to get the payment amou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5720" y="3857760"/>
            <a:ext cx="182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aily Percentage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5280" y="3857760"/>
            <a:ext cx="1057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74960" y="385776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40920" y="3857760"/>
            <a:ext cx="126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7240" y="42102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7240" y="461340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7240" y="5011560"/>
            <a:ext cx="1587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7240" y="5416560"/>
            <a:ext cx="1587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8816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8816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816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816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4640" y="42102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54640" y="461340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54640" y="5011560"/>
            <a:ext cx="857520" cy="28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54640" y="5416560"/>
            <a:ext cx="857520" cy="28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5800" y="42148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5800" y="4637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5800" y="5035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5800" y="543384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3040" y="4210200"/>
            <a:ext cx="88272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93040" y="4613400"/>
            <a:ext cx="88272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3040" y="5011560"/>
            <a:ext cx="882720" cy="31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93040" y="5416560"/>
            <a:ext cx="88272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54520" y="460692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54520" y="5011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54520" y="53928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421488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75560" y="461340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75560" y="5011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75560" y="5416560"/>
            <a:ext cx="1043280" cy="28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760" y="5856120"/>
            <a:ext cx="9848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43160" y="5904000"/>
            <a:ext cx="128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800" y="627228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5256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2760" y="6272280"/>
            <a:ext cx="125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Discount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194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47480" y="6272280"/>
            <a:ext cx="174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19840" y="627840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8800" y="665316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560" y="6676920"/>
            <a:ext cx="12067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0960" y="6653160"/>
            <a:ext cx="1650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iscount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3560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6200" y="6653160"/>
            <a:ext cx="198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st to Gover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9680" y="6676920"/>
            <a:ext cx="120636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79920" y="282600"/>
            <a:ext cx="1278720" cy="11840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    28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12880" y="868320"/>
            <a:ext cx="597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77440" y="754200"/>
            <a:ext cx="368280" cy="56988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28496" dir="9225519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2209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40440" y="2081160"/>
            <a:ext cx="130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0400" y="3235320"/>
            <a:ext cx="149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RLIER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3240" y="22096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6400" y="4084560"/>
            <a:ext cx="480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49840" y="42195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2280" y="3070080"/>
            <a:ext cx="71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51240" y="4213080"/>
            <a:ext cx="8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1240" y="421308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65240" y="65070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16:11:40Z</dcterms:created>
  <dc:creator>Soldier Support Institute</dc:creator>
  <dc:description/>
  <dc:language>en-US</dc:language>
  <cp:lastModifiedBy>Administrator</cp:lastModifiedBy>
  <cp:lastPrinted>2000-03-17T15:14:36Z</cp:lastPrinted>
  <dcterms:modified xsi:type="dcterms:W3CDTF">2004-09-16T18:47:39Z</dcterms:modified>
  <cp:revision>5</cp:revision>
  <dc:subject/>
  <dc:title>DUE DATES</dc:title>
</cp:coreProperties>
</file>